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F9C-3693-4452-8CF6-766F2637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C66-42D4-4C12-9266-E7E48A7B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8E2-E03C-4ECD-A1B5-A6C8E609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EB8-ECB8-4850-82B2-E0D8E6F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255-7CAA-4810-B9FE-FF5BA669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CEA-865B-4B80-A43F-E3A16FE1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D8B-29A6-45BF-A7F0-4A37BFB5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F7B-69D7-4054-AB92-0D67E566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929-52DA-4486-851E-49571BD9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F0B-026E-4936-87B5-B11DCCC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65D-C028-49A9-8867-D5859CC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6E8-F082-4066-B546-B5D4FE2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FF1-8C79-465E-886D-E99C3F44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QK_EfToE74rem6kcB6E83njgc6jD9l8GDLomTWOFwgyu0QEg-Bjw"/>
          <p:cNvPicPr/>
          <p:nvPr/>
        </p:nvPicPr>
        <p:blipFill>
          <a:blip r:embed="rId1"/>
          <a:stretch/>
        </p:blipFill>
        <p:spPr>
          <a:xfrm>
            <a:off x="0" y="0"/>
            <a:ext cx="2286000" cy="15159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7"/>
          <p:cNvSpPr/>
          <p:nvPr/>
        </p:nvSpPr>
        <p:spPr>
          <a:xfrm>
            <a:off x="3147840" y="2629080"/>
            <a:ext cx="28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-Walk-To-Remember-a-walk-to-remember-2021433-852-480"/>
          <p:cNvPicPr/>
          <p:nvPr/>
        </p:nvPicPr>
        <p:blipFill>
          <a:blip r:embed="rId2"/>
          <a:stretch/>
        </p:blipFill>
        <p:spPr>
          <a:xfrm>
            <a:off x="5067360" y="0"/>
            <a:ext cx="3581280" cy="20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A-WALK-TO-REMEMBER-a-walk-to-remember-618029_800_604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7254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9"/>
          <p:cNvSpPr/>
          <p:nvPr/>
        </p:nvSpPr>
        <p:spPr>
          <a:xfrm>
            <a:off x="4952880" y="1600200"/>
            <a:ext cx="28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5"/>
          <p:cNvSpPr/>
          <p:nvPr/>
        </p:nvSpPr>
        <p:spPr>
          <a:xfrm>
            <a:off x="3809880" y="28195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7" descr="2255257"/>
          <p:cNvPicPr/>
          <p:nvPr/>
        </p:nvPicPr>
        <p:blipFill>
          <a:blip r:embed="rId4"/>
          <a:stretch/>
        </p:blipFill>
        <p:spPr>
          <a:xfrm>
            <a:off x="2286000" y="-14400"/>
            <a:ext cx="2019240" cy="1614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1" descr="444555_1274093838366_full"/>
          <p:cNvPicPr/>
          <p:nvPr/>
        </p:nvPicPr>
        <p:blipFill>
          <a:blip r:embed="rId5"/>
          <a:stretch/>
        </p:blipFill>
        <p:spPr>
          <a:xfrm>
            <a:off x="6858000" y="1676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5" descr="444555_1284130506794_full"/>
          <p:cNvPicPr/>
          <p:nvPr/>
        </p:nvPicPr>
        <p:blipFill>
          <a:blip r:embed="rId6"/>
          <a:stretch/>
        </p:blipFill>
        <p:spPr>
          <a:xfrm>
            <a:off x="-27000" y="327024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7"/>
          <p:cNvSpPr/>
          <p:nvPr/>
        </p:nvSpPr>
        <p:spPr>
          <a:xfrm>
            <a:off x="0" y="-20520"/>
            <a:ext cx="3000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0001wtyh"/>
          <p:cNvPicPr/>
          <p:nvPr/>
        </p:nvPicPr>
        <p:blipFill>
          <a:blip r:embed="rId7"/>
          <a:stretch/>
        </p:blipFill>
        <p:spPr>
          <a:xfrm>
            <a:off x="2971800" y="5232240"/>
            <a:ext cx="3324240" cy="162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2" descr="ANd9GcSpzdBzMxa2OJdsNeqX0sUxil2j-jDIXXgbOY_nEkMN6kvI3rW_fA"/>
          <p:cNvPicPr/>
          <p:nvPr/>
        </p:nvPicPr>
        <p:blipFill>
          <a:blip r:embed="rId8"/>
          <a:stretch/>
        </p:blipFill>
        <p:spPr>
          <a:xfrm>
            <a:off x="7467480" y="3200400"/>
            <a:ext cx="167652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ANd9GcSSB5Qjk493ucbfnhWtgjwEh6y20YssViwQUmxIW-drNYXuDNV2GQ"/>
          <p:cNvPicPr/>
          <p:nvPr/>
        </p:nvPicPr>
        <p:blipFill>
          <a:blip r:embed="rId9"/>
          <a:stretch/>
        </p:blipFill>
        <p:spPr>
          <a:xfrm>
            <a:off x="6296040" y="524844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6" descr="ANd9GcSZeHy-l3iP5feYAIpDmjK6LY5LuM72Zx5rQmnSj3MnjPRIhAjb"/>
          <p:cNvPicPr/>
          <p:nvPr/>
        </p:nvPicPr>
        <p:blipFill>
          <a:blip r:embed="rId10"/>
          <a:stretch/>
        </p:blipFill>
        <p:spPr>
          <a:xfrm>
            <a:off x="2057400" y="289548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8" descr="ANd9GcR7sI2HOxFbSueW6n2podQRCCf8rm-Qf2h5ybp8LXHkZGdUXakKXw"/>
          <p:cNvPicPr/>
          <p:nvPr/>
        </p:nvPicPr>
        <p:blipFill>
          <a:blip r:embed="rId11">
            <a:lum contrast="6000"/>
          </a:blip>
          <a:stretch/>
        </p:blipFill>
        <p:spPr>
          <a:xfrm>
            <a:off x="-27000" y="1503360"/>
            <a:ext cx="2563920" cy="176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2" descr="84451291_the_notebook_movie_answer_2_xlarge"/>
          <p:cNvPicPr/>
          <p:nvPr/>
        </p:nvPicPr>
        <p:blipFill>
          <a:blip r:embed="rId12"/>
          <a:stretch/>
        </p:blipFill>
        <p:spPr>
          <a:xfrm>
            <a:off x="5867280" y="3505320"/>
            <a:ext cx="1623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6" descr="tumblr_m1gcylpovf1r17rbho1_400"/>
          <p:cNvPicPr/>
          <p:nvPr/>
        </p:nvPicPr>
        <p:blipFill>
          <a:blip r:embed="rId13"/>
          <a:stretch/>
        </p:blipFill>
        <p:spPr>
          <a:xfrm>
            <a:off x="0" y="5543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0" descr="movies_the_notebook-11441"/>
          <p:cNvPicPr/>
          <p:nvPr/>
        </p:nvPicPr>
        <p:blipFill>
          <a:blip r:embed="rId14"/>
          <a:stretch/>
        </p:blipFill>
        <p:spPr>
          <a:xfrm>
            <a:off x="4952880" y="14479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4" descr="tumblr_m80avsMyS11r5xphdo2_1280"/>
          <p:cNvPicPr/>
          <p:nvPr/>
        </p:nvPicPr>
        <p:blipFill>
          <a:blip r:embed="rId15"/>
          <a:stretch/>
        </p:blipFill>
        <p:spPr>
          <a:xfrm>
            <a:off x="167652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5" descr=""/>
          <p:cNvPicPr/>
          <p:nvPr/>
        </p:nvPicPr>
        <p:blipFill>
          <a:blip r:embed="rId16"/>
          <a:stretch/>
        </p:blipFill>
        <p:spPr>
          <a:xfrm>
            <a:off x="2486160" y="1422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6" descr=""/>
          <p:cNvPicPr/>
          <p:nvPr/>
        </p:nvPicPr>
        <p:blipFill>
          <a:blip r:embed="rId17"/>
          <a:stretch/>
        </p:blipFill>
        <p:spPr>
          <a:xfrm>
            <a:off x="3209760" y="-20520"/>
            <a:ext cx="242892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7" descr=""/>
          <p:cNvPicPr/>
          <p:nvPr/>
        </p:nvPicPr>
        <p:blipFill>
          <a:blip r:embed="rId18"/>
          <a:stretch/>
        </p:blipFill>
        <p:spPr>
          <a:xfrm>
            <a:off x="3705120" y="2603520"/>
            <a:ext cx="237348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"/>
          <p:cNvPicPr/>
          <p:nvPr/>
        </p:nvPicPr>
        <p:blipFill>
          <a:blip r:embed="rId19"/>
          <a:stretch/>
        </p:blipFill>
        <p:spPr>
          <a:xfrm>
            <a:off x="3865680" y="391320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2107440" y="152280"/>
            <a:ext cx="4959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575d1"/>
                </a:solidFill>
                <a:uFillTx/>
                <a:latin typeface="Britannic Bold"/>
              </a:rPr>
              <a:t>El Cine</a:t>
            </a:r>
            <a:r>
              <a:rPr b="1" lang="en-US" sz="2400" spc="-1" strike="noStrike">
                <a:solidFill>
                  <a:srgbClr val="7575d1"/>
                </a:solidFill>
                <a:latin typeface="Britannic Bold"/>
              </a:rPr>
              <a:t> de Películas Fantást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3886200"/>
            <a:ext cx="3708360" cy="31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¡Un evento d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lícul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omántic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A WALK TO REMEMB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, THE V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THE NOT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os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Sesiones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El trece de febrero a las och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El catorce de febrero a las siete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as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Entradas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Para niños: siet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Para adultos: once dólares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¡</a:t>
            </a:r>
            <a:r>
              <a:rPr b="1" lang="es-ES" sz="1200" spc="-1" strike="noStrike">
                <a:solidFill>
                  <a:srgbClr val="00ff00"/>
                </a:solidFill>
                <a:latin typeface="Arial"/>
              </a:rPr>
              <a:t>Cincuenta por ciento de descuento para los bebé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70c0"/>
                </a:solidFill>
                <a:latin typeface="Arial"/>
              </a:rPr>
              <a:t>Se pueden comprar en </a:t>
            </a:r>
            <a:r>
              <a:rPr b="1" lang="es-ES" sz="1200" spc="-1" strike="noStrike" u="sng">
                <a:solidFill>
                  <a:srgbClr val="0070c0"/>
                </a:solidFill>
                <a:uFillTx/>
                <a:latin typeface="Arial"/>
              </a:rPr>
              <a:t>la taquilla</a:t>
            </a:r>
            <a:r>
              <a:rPr b="1" lang="es-ES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Los acto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Mandy Moore y Shane West (A Walk to Remember) Ryan Gosling y Rachel McAdams (The Notebook) Channing Tatum y Rachel McAdams (The Vow)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352680" y="838080"/>
            <a:ext cx="3909960" cy="234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un evento de películas románticas en el Cine de Películas Fantásticas. Las entradas cuestan siete dólares para los niños y once dólares para los adultos. Cincuenta por ciento de descuento para los bebés. Los actores son Ryan Gosling, Rachel McAdams, Channing Tatum, Mandy Moore, y Shane West.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La pantalla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es muy grande y claro. Las películas no es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oblado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 Son en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versión original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con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ubtítulo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en español. Hay palomitas, dulces, refrescos, y agua. Las butacas son muy comodos. Hay una fila bastante corto. Usted puede tomar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l autobús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,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l metro,</a:t>
            </a:r>
            <a:r>
              <a:rPr b="1" lang="en-US" sz="1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o un taxi para llegar al cine. Hay empleados que hablan españo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6:43:28Z</dcterms:created>
  <dc:creator>duichmar</dc:creator>
  <dc:description/>
  <dc:language>en-US</dc:language>
  <cp:lastModifiedBy>duichmar</cp:lastModifiedBy>
  <dcterms:modified xsi:type="dcterms:W3CDTF">2013-01-02T18:59:44Z</dcterms:modified>
  <cp:revision>14</cp:revision>
  <dc:subject/>
  <dc:title>Slide 1</dc:title>
</cp:coreProperties>
</file>